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A23D-919A-47B4-9AEC-B6EBD157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A25E-908A-4D97-9E8F-7C918C2C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D3C8-C482-4581-AA37-260839A8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06F8-D548-4C28-AF2A-C91A3EC9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CB98-6F59-431D-B43F-932AEBA0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2544-7B15-4632-A0CF-9C6B0625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3814-8C98-4FA1-86F5-AB8696E6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C1C0-851A-4E4B-B734-963FA43D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E219-D45A-4FF5-BC8F-DB66B0D8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7618-653B-4BBB-93E4-A4F92C41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149-E5B9-4865-8A97-F68DE538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E59E-8DEB-47A5-BF61-720D829C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06AC-65C1-47A5-B2C4-5182A53F0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0920" y="260280"/>
            <a:ext cx="8570880" cy="6289920"/>
            <a:chOff x="250920" y="260280"/>
            <a:chExt cx="8570880" cy="62899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250920" y="260280"/>
              <a:ext cx="1982520" cy="18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826920" y="1341360"/>
              <a:ext cx="7632720" cy="410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SATURDAY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NIGHT 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MURDER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7020000" y="5157720"/>
              <a:ext cx="1801800" cy="139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9:54:36Z</dcterms:created>
  <dc:creator>bourgau</dc:creator>
  <dc:description/>
  <dc:language>en-US</dc:language>
  <cp:lastModifiedBy>bourgau</cp:lastModifiedBy>
  <dcterms:modified xsi:type="dcterms:W3CDTF">2013-05-06T20:02:23Z</dcterms:modified>
  <cp:revision>2</cp:revision>
  <dc:subject/>
  <dc:title>Diapositive 1</dc:title>
</cp:coreProperties>
</file>